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42C2-2020-45A8-8C0F-041419B7F0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8EDEB-0E42-4AEE-963C-7E1712777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5CA-FBB5-4BE6-AFC3-89FB79B6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2D8E-E80C-482B-8C59-F9E570C18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E33-84D5-449A-A3B8-66EFE7223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8AC1-5082-4CFD-9008-AF9DDF59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E432-D37B-4402-84A3-DBD0633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5CBA-1EFB-4AE5-B853-F36F120B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CC2A-BE44-425B-BD99-5EFE84DC5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422A-54E8-4C58-BBC8-540CBAF16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2E2F-CF7F-450B-9E52-67AB5A75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324B-D3DC-4E75-909F-EAD33227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660EE-D6C9-4DB1-8B7A-C2EA1D46A6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Заголовок 1"/>
          <p:cNvSpPr/>
          <p:nvPr/>
        </p:nvSpPr>
        <p:spPr>
          <a:xfrm>
            <a:off x="403200" y="1628640"/>
            <a:ext cx="8229600" cy="17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Об итогах приемной кампании 2019 года в государственные профессиональные образовательные организаци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Прямоугольник 17"/>
          <p:cNvSpPr/>
          <p:nvPr/>
        </p:nvSpPr>
        <p:spPr>
          <a:xfrm>
            <a:off x="2908440" y="5362560"/>
            <a:ext cx="598464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54061"/>
                </a:solidFill>
                <a:latin typeface="Arial"/>
              </a:rPr>
              <a:t>Мочалов Александр Николаевич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руководитель управления профессионального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образования и нау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254061"/>
                </a:solidFill>
                <a:latin typeface="Calibri"/>
              </a:rPr>
              <a:t>09.10.201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ая соединительная линия 19"/>
          <p:cNvSpPr/>
          <p:nvPr/>
        </p:nvSpPr>
        <p:spPr>
          <a:xfrm>
            <a:off x="4518000" y="5229360"/>
            <a:ext cx="437508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88920" y="826920"/>
          <a:ext cx="8966160" cy="6012000"/>
        </p:xfrm>
        <a:graphic>
          <a:graphicData uri="http://schemas.openxmlformats.org/drawingml/2006/table">
            <a:tbl>
              <a:tblPr/>
              <a:tblGrid>
                <a:gridCol w="8966160"/>
              </a:tblGrid>
              <a:tr h="34308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I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0</a:t>
                      </a:r>
                      <a:r>
                        <a:rPr b="1" i="1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– </a:t>
                      </a:r>
                      <a:r>
                        <a:rPr b="1" i="1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,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тельный центр с. Камышл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таллург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рский государ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промышленных технолог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езенчукский аграр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ль-Черкасский сельскохозяй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4158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страв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шаровский государственный техникум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гатов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энергет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оргово-экономический колледж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паевский химико-технологически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радненский нефтяно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ональное училище с. Домаш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паевский губернский колледж им. О.Колыче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ктябрьский техникум строительных и сервисных технологий им. В.Г. Кубасо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фтегорский государственны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техникум м.р. Кошкинск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14176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химико-технологический технику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ногопрофильный колледж им. Бартенева В.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дж гуманитарных и социально-педагогических дисципл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областное училище культуры и искусст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ярское профессиональ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художественное училищ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3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318B3348-7435-4181-9BA1-B958221F19B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AE55A985-C3A9-43EB-B668-99B0142B2D0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оугольник 12"/>
          <p:cNvSpPr/>
          <p:nvPr/>
        </p:nvSpPr>
        <p:spPr>
          <a:xfrm>
            <a:off x="144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оугольник 11"/>
          <p:cNvSpPr/>
          <p:nvPr/>
        </p:nvSpPr>
        <p:spPr>
          <a:xfrm>
            <a:off x="135000" y="158760"/>
            <a:ext cx="866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лизация краткосрочных програм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rcRect l="1093" t="12435" r="32560" b="30517"/>
          <a:stretch/>
        </p:blipFill>
        <p:spPr>
          <a:xfrm>
            <a:off x="22320" y="1484280"/>
            <a:ext cx="3821040" cy="28432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  <p:sp>
        <p:nvSpPr>
          <p:cNvPr id="90" name="TextBox 4"/>
          <p:cNvSpPr/>
          <p:nvPr/>
        </p:nvSpPr>
        <p:spPr>
          <a:xfrm>
            <a:off x="4067280" y="1371600"/>
            <a:ext cx="466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1 025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ловек – прошли обучение в 2019 году (по состоянию на 1 сентябр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4059360" y="2421000"/>
          <a:ext cx="4914720" cy="2063520"/>
        </p:xfrm>
        <a:graphic>
          <a:graphicData uri="http://schemas.openxmlformats.org/drawingml/2006/table">
            <a:tbl>
              <a:tblPr/>
              <a:tblGrid>
                <a:gridCol w="4194000"/>
                <a:gridCol w="720720"/>
              </a:tblGrid>
              <a:tr h="371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дицин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36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едицин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581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соц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Похвистне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  <a:tr h="371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медико-гуманитар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BD77DE59-3E35-4D6A-9BB6-4467974F179C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Прямоугольник 12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оугольник 11"/>
          <p:cNvSpPr/>
          <p:nvPr/>
        </p:nvSpPr>
        <p:spPr>
          <a:xfrm>
            <a:off x="34920" y="158760"/>
            <a:ext cx="900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ализация профессионального обучения и дополнительного профессионального образования граждан предпенсионного возраста в 2019 г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50920" y="1052640"/>
          <a:ext cx="8713800" cy="5983200"/>
        </p:xfrm>
        <a:graphic>
          <a:graphicData uri="http://schemas.openxmlformats.org/drawingml/2006/table">
            <a:tbl>
              <a:tblPr/>
              <a:tblGrid>
                <a:gridCol w="4321080"/>
                <a:gridCol w="863640"/>
                <a:gridCol w="2736720"/>
                <a:gridCol w="792360"/>
              </a:tblGrid>
              <a:tr h="411480"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Наименование образовательной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рганизаци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КВОТ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о по состоянию на 07.10.2019 г., чел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бучено, %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540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Новокуйбышевский гуманитарно-технол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7 человек проходит обучение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Колледж технического и художественного образования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6 %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Самарский государствен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Самарский колледж сервиса производственного оборудования им. Героя Российской Федерации Е.В. Золотухи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,5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машиностроитель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соц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63 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электротехнический техникум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Губернский колледж г. Сызрани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(Проходит обучение 20 чел.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АПОУ «Тольяттинский индустр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государственный колледж сервисных технологий и дизайн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9,7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ехникум кулинарного искусст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(47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ехникум промышленных технологий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,1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576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торгово-эконом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 </a:t>
                      </a: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8 в процессе обуче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380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Технологический колледж им. Н.Д. Кузнецова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 (ПО с 16.09-09.11)  16 (ДПО с 30.09-26.1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,4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Поволжский государственны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20040">
                <a:tc>
                  <a:txBody>
                    <a:bodyPr lIns="17280" rIns="1728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БПОУ «Самарский социально-педагогический колледж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(Группы в процессе формирования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17280" rIns="1728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0040">
                <a:tc>
                  <a:txBody>
                    <a:bodyPr lIns="17280" rIns="1728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СЕГО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3   (проходят обучение 169 чел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17280" rIns="17280" tIns="0" bIns="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2,3 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17280" marR="17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BFBD1D51-001B-4895-920A-29D50E20099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12"/>
          <p:cNvSpPr/>
          <p:nvPr/>
        </p:nvSpPr>
        <p:spPr>
          <a:xfrm>
            <a:off x="0" y="4428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https://</a:t>
            </a: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профстажировки.рф/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students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rcRect l="5053" t="2817" r="19628" b="5431"/>
          <a:stretch/>
        </p:blipFill>
        <p:spPr>
          <a:xfrm>
            <a:off x="190440" y="836640"/>
            <a:ext cx="855828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Итоги приемной кампании в профессиональные образовательные организации Самарской област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Объект 1" descr=""/>
          <p:cNvPicPr/>
          <p:nvPr/>
        </p:nvPicPr>
        <p:blipFill>
          <a:blip r:embed="rId1"/>
          <a:stretch/>
        </p:blipFill>
        <p:spPr>
          <a:xfrm>
            <a:off x="2144880" y="2514600"/>
            <a:ext cx="6870600" cy="4133880"/>
          </a:xfrm>
          <a:prstGeom prst="rect">
            <a:avLst/>
          </a:prstGeom>
          <a:ln w="0">
            <a:noFill/>
          </a:ln>
        </p:spPr>
      </p:pic>
      <p:sp>
        <p:nvSpPr>
          <p:cNvPr id="46" name="Объект 7"/>
          <p:cNvSpPr/>
          <p:nvPr/>
        </p:nvSpPr>
        <p:spPr>
          <a:xfrm>
            <a:off x="108000" y="958680"/>
            <a:ext cx="3311640" cy="208764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Arial"/>
              </a:rPr>
              <a:t>Выполнение КЦ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9 – 99,2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      </a:t>
            </a: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8 – 97,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Bookman Old Style"/>
                <a:ea typeface="Arial"/>
              </a:rPr>
              <a:t>2017 – 95,6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3"/>
          <p:cNvSpPr/>
          <p:nvPr/>
        </p:nvSpPr>
        <p:spPr>
          <a:xfrm>
            <a:off x="0" y="115920"/>
            <a:ext cx="9144000" cy="91440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Динамика выполнения КЦП по профилям подготов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22200" y="1413000"/>
          <a:ext cx="8497800" cy="4725720"/>
        </p:xfrm>
        <a:graphic>
          <a:graphicData uri="http://schemas.openxmlformats.org/drawingml/2006/table">
            <a:tbl>
              <a:tblPr/>
              <a:tblGrid>
                <a:gridCol w="6337440"/>
                <a:gridCol w="718920"/>
                <a:gridCol w="720720"/>
                <a:gridCol w="720720"/>
              </a:tblGrid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0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</a:tr>
              <a:tr h="7426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фессии и специальности сферы IT-технологий, электро- и теплоэнергетика, машиностроения,  хим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тро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1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036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технический профи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4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50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сельск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320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профессии и специальности пищевой промыш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2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672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2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1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174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науки об обществе (социология, экономика, юриспруденция, сервис и туриз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9cde5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7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9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3"/>
          <p:cNvSpPr/>
          <p:nvPr/>
        </p:nvSpPr>
        <p:spPr>
          <a:xfrm>
            <a:off x="0" y="115920"/>
            <a:ext cx="9144000" cy="105264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ка высококвалифицированных специалистов и рабочих кадров с учетом современных стандартов и передовых технолог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Рабочие кадры для передовых технологий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Диаграмма 1" descr=""/>
          <p:cNvPicPr/>
          <p:nvPr/>
        </p:nvPicPr>
        <p:blipFill>
          <a:blip r:embed="rId1"/>
          <a:stretch/>
        </p:blipFill>
        <p:spPr>
          <a:xfrm>
            <a:off x="200160" y="1217520"/>
            <a:ext cx="4278240" cy="2549520"/>
          </a:xfrm>
          <a:prstGeom prst="rect">
            <a:avLst/>
          </a:prstGeom>
          <a:ln w="0">
            <a:noFill/>
          </a:ln>
        </p:spPr>
      </p:pic>
      <p:pic>
        <p:nvPicPr>
          <p:cNvPr id="51" name="Диаграмма 2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3990960" cy="2765520"/>
          </a:xfrm>
          <a:prstGeom prst="rect">
            <a:avLst/>
          </a:prstGeom>
          <a:ln w="0">
            <a:noFill/>
          </a:ln>
        </p:spPr>
      </p:pic>
      <p:pic>
        <p:nvPicPr>
          <p:cNvPr id="52" name="Диаграмма 8" descr=""/>
          <p:cNvPicPr/>
          <p:nvPr/>
        </p:nvPicPr>
        <p:blipFill>
          <a:blip r:embed="rId3"/>
          <a:stretch/>
        </p:blipFill>
        <p:spPr>
          <a:xfrm>
            <a:off x="4737240" y="3933720"/>
            <a:ext cx="3990960" cy="2765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4643280" y="1413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0" y="1268280"/>
          <a:ext cx="4392720" cy="2266920"/>
        </p:xfrm>
        <a:graphic>
          <a:graphicData uri="http://schemas.openxmlformats.org/drawingml/2006/table">
            <a:tbl>
              <a:tblPr/>
              <a:tblGrid>
                <a:gridCol w="1224000"/>
                <a:gridCol w="1297080"/>
                <a:gridCol w="1871640"/>
              </a:tblGrid>
              <a:tr h="1657440">
                <a:tc gridSpan="3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Целевой индикатор  комплекса мер, направленных на совершенствование системы СПО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на 2015-2020 год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«Доля ПОО, в которых осуществляется подготовка кадров по 50 наиболее перспективным и востребованным на рынке труда профессиям и специальностям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4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пла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фак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4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20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1400" spc="-1" strike="noStrike">
                          <a:solidFill>
                            <a:srgbClr val="1f497d"/>
                          </a:solidFill>
                          <a:latin typeface="Times New Roman"/>
                          <a:ea typeface="Times New Roman"/>
                        </a:rPr>
                        <a:t>63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оугольник 3"/>
          <p:cNvSpPr/>
          <p:nvPr/>
        </p:nvSpPr>
        <p:spPr>
          <a:xfrm>
            <a:off x="12600" y="138240"/>
            <a:ext cx="9023400" cy="1052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ъема и структуры контрольных цифр приема граждан для обучения по образовательным программам среднего профессионального образования за счет средств бюджета Самар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Диаграмма 2" descr=""/>
          <p:cNvPicPr/>
          <p:nvPr/>
        </p:nvPicPr>
        <p:blipFill>
          <a:blip r:embed="rId1"/>
          <a:stretch/>
        </p:blipFill>
        <p:spPr>
          <a:xfrm>
            <a:off x="150840" y="1301760"/>
            <a:ext cx="5213160" cy="2286000"/>
          </a:xfrm>
          <a:prstGeom prst="rect">
            <a:avLst/>
          </a:prstGeom>
          <a:ln w="0">
            <a:noFill/>
          </a:ln>
        </p:spPr>
      </p:pic>
      <p:sp>
        <p:nvSpPr>
          <p:cNvPr id="57" name="Выгнутая вниз стрелка 15"/>
          <p:cNvSpPr/>
          <p:nvPr/>
        </p:nvSpPr>
        <p:spPr>
          <a:xfrm>
            <a:off x="3635280" y="3595680"/>
            <a:ext cx="1209600" cy="431640"/>
          </a:xfrm>
          <a:custGeom>
            <a:avLst/>
            <a:gdLst>
              <a:gd name="textAreaLeft" fmla="*/ 261720 w 1209600"/>
              <a:gd name="textAreaRight" fmla="*/ 893880 w 12096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55" hR="21600" stAng="10800000" swAng="-5400000"/>
                <a:lnTo>
                  <a:pt x="11282" y="21600"/>
                </a:lnTo>
                <a:arcTo wR="9355" hR="21600" stAng="5400000" swAng="-3551812"/>
                <a:lnTo>
                  <a:pt x="21303" y="5400"/>
                </a:lnTo>
                <a:lnTo>
                  <a:pt x="19673" y="0"/>
                </a:lnTo>
                <a:lnTo>
                  <a:pt x="17448" y="5400"/>
                </a:lnTo>
                <a:lnTo>
                  <a:pt x="18412" y="5400"/>
                </a:lnTo>
                <a:arcTo wR="9355" hR="21600" stAng="1848188" swAng="3397749"/>
                <a:lnTo>
                  <a:pt x="10318" y="21485"/>
                </a:lnTo>
                <a:arcTo wR="9355" hR="21600" stAng="5554062" swAng="5245938"/>
                <a:close/>
              </a:path>
              <a:path fill="darkenLess" w="21600" h="21600">
                <a:moveTo>
                  <a:pt x="0" y="0"/>
                </a:moveTo>
                <a:arcTo wR="9355" hR="21600" stAng="10800000" swAng="-5400000"/>
                <a:lnTo>
                  <a:pt x="11282" y="21600"/>
                </a:lnTo>
                <a:arcTo wR="9355" hR="21600" stAng="5400000" swAng="154062"/>
                <a:lnTo>
                  <a:pt x="10318" y="21485"/>
                </a:lnTo>
                <a:arcTo wR="9355" hR="21600" stAng="5554062" swAng="5245938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Выгнутая вниз стрелка 16"/>
          <p:cNvSpPr/>
          <p:nvPr/>
        </p:nvSpPr>
        <p:spPr>
          <a:xfrm>
            <a:off x="2124000" y="3587760"/>
            <a:ext cx="1332000" cy="431640"/>
          </a:xfrm>
          <a:custGeom>
            <a:avLst/>
            <a:gdLst>
              <a:gd name="textAreaLeft" fmla="*/ 292320 w 1332000"/>
              <a:gd name="textAreaRight" fmla="*/ 985680 w 1332000"/>
              <a:gd name="textAreaTop" fmla="*/ 57600 h 431640"/>
              <a:gd name="textAreaBottom" fmla="*/ 37404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87" hR="21600" stAng="10800000" swAng="-5400000"/>
                <a:lnTo>
                  <a:pt x="11238" y="21600"/>
                </a:lnTo>
                <a:arcTo wR="9487" hR="21600" stAng="5400000" swAng="-3573008"/>
                <a:lnTo>
                  <a:pt x="21299" y="5400"/>
                </a:lnTo>
                <a:lnTo>
                  <a:pt x="19850" y="0"/>
                </a:lnTo>
                <a:lnTo>
                  <a:pt x="17798" y="5400"/>
                </a:lnTo>
                <a:lnTo>
                  <a:pt x="18673" y="5400"/>
                </a:lnTo>
                <a:arcTo wR="9487" hR="21600" stAng="1826992" swAng="3433148"/>
                <a:lnTo>
                  <a:pt x="10363" y="21508"/>
                </a:lnTo>
                <a:arcTo wR="9487" hR="21600" stAng="5539860" swAng="5260140"/>
                <a:close/>
              </a:path>
              <a:path fill="darkenLess" w="21600" h="21600">
                <a:moveTo>
                  <a:pt x="0" y="0"/>
                </a:moveTo>
                <a:arcTo wR="9487" hR="21600" stAng="10800000" swAng="-5400000"/>
                <a:lnTo>
                  <a:pt x="11238" y="21600"/>
                </a:lnTo>
                <a:arcTo wR="9487" hR="21600" stAng="5400000" swAng="139860"/>
                <a:lnTo>
                  <a:pt x="10363" y="21508"/>
                </a:lnTo>
                <a:arcTo wR="9487" hR="21600" stAng="5539860" swAng="5260140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Выгнутая вниз стрелка 17"/>
          <p:cNvSpPr/>
          <p:nvPr/>
        </p:nvSpPr>
        <p:spPr>
          <a:xfrm>
            <a:off x="684360" y="3576600"/>
            <a:ext cx="1366560" cy="432000"/>
          </a:xfrm>
          <a:custGeom>
            <a:avLst/>
            <a:gdLst>
              <a:gd name="textAreaLeft" fmla="*/ 300960 w 1366560"/>
              <a:gd name="textAreaRight" fmla="*/ 1011600 w 1366560"/>
              <a:gd name="textAreaTop" fmla="*/ 57600 h 432000"/>
              <a:gd name="textAreaBottom" fmla="*/ 37440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21" hR="21600" stAng="10800000" swAng="-5400000"/>
                <a:lnTo>
                  <a:pt x="11227" y="21600"/>
                </a:lnTo>
                <a:arcTo wR="9521" hR="21600" stAng="5400000" swAng="-3578297"/>
                <a:lnTo>
                  <a:pt x="21298" y="5400"/>
                </a:lnTo>
                <a:lnTo>
                  <a:pt x="19894" y="0"/>
                </a:lnTo>
                <a:lnTo>
                  <a:pt x="17886" y="5400"/>
                </a:lnTo>
                <a:lnTo>
                  <a:pt x="18739" y="5400"/>
                </a:lnTo>
                <a:arcTo wR="9521" hR="21600" stAng="1821703" swAng="3442061"/>
                <a:lnTo>
                  <a:pt x="10374" y="21513"/>
                </a:lnTo>
                <a:arcTo wR="9521" hR="21600" stAng="5536236" swAng="5263764"/>
                <a:close/>
              </a:path>
              <a:path fill="darkenLess" w="21600" h="21600">
                <a:moveTo>
                  <a:pt x="0" y="0"/>
                </a:moveTo>
                <a:arcTo wR="9521" hR="21600" stAng="10800000" swAng="-5400000"/>
                <a:lnTo>
                  <a:pt x="11227" y="21600"/>
                </a:lnTo>
                <a:arcTo wR="9521" hR="21600" stAng="5400000" swAng="136236"/>
                <a:lnTo>
                  <a:pt x="10374" y="21513"/>
                </a:lnTo>
                <a:arcTo wR="9521" hR="21600" stAng="5536236" swAng="5263764"/>
                <a:close/>
              </a:path>
            </a:pathLst>
          </a:custGeom>
          <a:solidFill>
            <a:srgbClr val="b7dee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18"/>
          <p:cNvSpPr/>
          <p:nvPr/>
        </p:nvSpPr>
        <p:spPr>
          <a:xfrm>
            <a:off x="4003560" y="35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8,4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9"/>
          <p:cNvSpPr/>
          <p:nvPr/>
        </p:nvSpPr>
        <p:spPr>
          <a:xfrm>
            <a:off x="2610000" y="35766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,9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20"/>
          <p:cNvSpPr/>
          <p:nvPr/>
        </p:nvSpPr>
        <p:spPr>
          <a:xfrm>
            <a:off x="1116000" y="35672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,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21"/>
          <p:cNvSpPr/>
          <p:nvPr/>
        </p:nvSpPr>
        <p:spPr>
          <a:xfrm>
            <a:off x="317520" y="4149720"/>
            <a:ext cx="4333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м КЦП по программам ПКРС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157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 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30,6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ы ТОП-50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46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ес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вые специальности – 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дитивные технологии, Обеспечение информационной безопасности автоматизированных систе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Диаграмма 2" descr=""/>
          <p:cNvPicPr/>
          <p:nvPr/>
        </p:nvPicPr>
        <p:blipFill>
          <a:blip r:embed="rId2"/>
          <a:stretch/>
        </p:blipFill>
        <p:spPr>
          <a:xfrm>
            <a:off x="5276880" y="1293840"/>
            <a:ext cx="3809880" cy="2344680"/>
          </a:xfrm>
          <a:prstGeom prst="rect">
            <a:avLst/>
          </a:prstGeom>
          <a:ln w="0">
            <a:noFill/>
          </a:ln>
        </p:spPr>
      </p:pic>
      <p:pic>
        <p:nvPicPr>
          <p:cNvPr id="65" name="Диаграмма 13" descr=""/>
          <p:cNvPicPr/>
          <p:nvPr/>
        </p:nvPicPr>
        <p:blipFill>
          <a:blip r:embed="rId3"/>
          <a:stretch/>
        </p:blipFill>
        <p:spPr>
          <a:xfrm>
            <a:off x="5291280" y="4468680"/>
            <a:ext cx="3462120" cy="19926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4"/>
          <p:cNvSpPr/>
          <p:nvPr/>
        </p:nvSpPr>
        <p:spPr>
          <a:xfrm>
            <a:off x="4788000" y="3825720"/>
            <a:ext cx="45720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м КЦП по ТОП-5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i="1" lang="ru-RU" sz="17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бщем объеме, %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Прямоугольник 3"/>
          <p:cNvSpPr/>
          <p:nvPr/>
        </p:nvSpPr>
        <p:spPr>
          <a:xfrm>
            <a:off x="12600" y="138240"/>
            <a:ext cx="9023400" cy="105228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объема и структуры контрольных цифр приема граждан для обучения по образовательным программам среднего профессионального образования за счет средств бюджета Самарской области на 2020 год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39760" y="1773360"/>
          <a:ext cx="8569440" cy="4241520"/>
        </p:xfrm>
        <a:graphic>
          <a:graphicData uri="http://schemas.openxmlformats.org/drawingml/2006/table">
            <a:tbl>
              <a:tblPr/>
              <a:tblGrid>
                <a:gridCol w="5641920"/>
                <a:gridCol w="976320"/>
                <a:gridCol w="974880"/>
                <a:gridCol w="976320"/>
              </a:tblGrid>
              <a:tr h="544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ЦП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080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и и специальности сферы  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технологий, электро- и теплоэнергетика, машиностроения,  химические технологи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роитель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сего по техническому профилю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3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льское хозяй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23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фессии и специальности пищевой промышлен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дравоохран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28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раз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14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ультур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648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ауки об обществе (экономика, юриспруденция,  сервис и туризм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4D61103B-F65E-468D-A802-4EE67ECDB15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Прямоугольник 11"/>
          <p:cNvSpPr/>
          <p:nvPr/>
        </p:nvSpPr>
        <p:spPr>
          <a:xfrm>
            <a:off x="108000" y="0"/>
            <a:ext cx="86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643280" y="1700280"/>
          <a:ext cx="4032360" cy="4522680"/>
        </p:xfrm>
        <a:graphic>
          <a:graphicData uri="http://schemas.openxmlformats.org/drawingml/2006/table">
            <a:tbl>
              <a:tblPr/>
              <a:tblGrid>
                <a:gridCol w="4032360"/>
              </a:tblGrid>
              <a:tr h="44604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7,0 - 19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6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льяттинский социально-педагог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марский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волжский государственный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овокуйбышевский гуманитарно-технолог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64a2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pic>
        <p:nvPicPr>
          <p:cNvPr id="73" name="Picture 87" descr=""/>
          <p:cNvPicPr/>
          <p:nvPr/>
        </p:nvPicPr>
        <p:blipFill>
          <a:blip r:embed="rId1"/>
          <a:srcRect l="6663" t="1728" r="7764" b="7436"/>
          <a:stretch/>
        </p:blipFill>
        <p:spPr>
          <a:xfrm>
            <a:off x="371520" y="1341360"/>
            <a:ext cx="345600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33C4F7A3-6E1B-42BE-933F-D436A32C95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79280" y="1052640"/>
          <a:ext cx="8785440" cy="5608440"/>
        </p:xfrm>
        <a:graphic>
          <a:graphicData uri="http://schemas.openxmlformats.org/drawingml/2006/table">
            <a:tbl>
              <a:tblPr/>
              <a:tblGrid>
                <a:gridCol w="8785440"/>
              </a:tblGrid>
              <a:tr h="3661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9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- 1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государственный колледж сервисных технологий и дизай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овокуйбышевский нефтехимически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кулинарного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соц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колледж искусств и культуры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31148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индустриально-педагог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олледж технического и художественного образ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колледж сервиса производственного оборудова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олжский строительно-энергетический колледж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ашиностроитель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096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колледж сервисных технологий и предприниматель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игулевский государствен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техникум авиационного и промышленного машиностроения имени Д.И. Козло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социально-эконом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узыкальный колледж им. Р.К.Щедри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3100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политехнически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ашиностроитель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медико-гуманитарный коллед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ергиевский губернски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ольшеглушицкий государственный технику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Номер слайда 1"/>
          <p:cNvSpPr/>
          <p:nvPr/>
        </p:nvSpPr>
        <p:spPr>
          <a:xfrm>
            <a:off x="3780000" y="6858000"/>
            <a:ext cx="1828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йд № </a:t>
            </a:r>
            <a:fld id="{E272E0DD-17E2-438A-B4DD-39D8F4E0E3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Прямоугольник 12"/>
          <p:cNvSpPr/>
          <p:nvPr/>
        </p:nvSpPr>
        <p:spPr>
          <a:xfrm>
            <a:off x="0" y="0"/>
            <a:ext cx="9144000" cy="936720"/>
          </a:xfrm>
          <a:prstGeom prst="rect">
            <a:avLst/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Прямоугольник 11"/>
          <p:cNvSpPr/>
          <p:nvPr/>
        </p:nvSpPr>
        <p:spPr>
          <a:xfrm>
            <a:off x="0" y="114480"/>
            <a:ext cx="892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254061"/>
                </a:solidFill>
                <a:latin typeface="Times New Roman"/>
                <a:ea typeface="Times New Roman"/>
              </a:rPr>
              <a:t>Результаты мониторинга эффективности деятельности государственных профессиональных образовательных организаций Самарской обла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42920" y="1413000"/>
          <a:ext cx="8785080" cy="4787640"/>
        </p:xfrm>
        <a:graphic>
          <a:graphicData uri="http://schemas.openxmlformats.org/drawingml/2006/table">
            <a:tbl>
              <a:tblPr/>
              <a:tblGrid>
                <a:gridCol w="8785080"/>
              </a:tblGrid>
              <a:tr h="382320">
                <a:tc>
                  <a:txBody>
                    <a:bodyPr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I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группа (19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 - 1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0</a:t>
                      </a:r>
                      <a:r>
                        <a:rPr b="1" i="1" lang="ru-RU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4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хнологический колледж имени Н.Д. Кузнец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ексеевское профессиональное уч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медицин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г. Сыз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124596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ызранский политехн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медицинский колледж им. Н. Ляпино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ольский сельскохозяйственны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ий политехнический коллед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ернский колледж города Похвистне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ольяттинский электротехнически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инельский государственный технику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3cddd">
                        <a:alpha val="20000"/>
                      </a:srgbClr>
                    </a:solidFill>
                  </a:tcPr>
                </a:tc>
              </a:tr>
              <a:tr h="957240">
                <a:tc>
                  <a:txBody>
                    <a:bodyPr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воростянский государственный технику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асноармейское профессиональное училищ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амарское музыкальное училище им. Д.Г.Шатал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2T12:07:34Z</dcterms:created>
  <dc:creator>Юлия В. Ферапонтова</dc:creator>
  <dc:description/>
  <dc:language>en-US</dc:language>
  <cp:lastModifiedBy>GK2</cp:lastModifiedBy>
  <cp:lastPrinted>2019-10-08T16:10:11Z</cp:lastPrinted>
  <dcterms:modified xsi:type="dcterms:W3CDTF">2019-10-09T09:40:31Z</dcterms:modified>
  <cp:revision>159</cp:revision>
  <dc:subject/>
  <dc:title>Анализ работы предметных комиссий Самарской области</dc:title>
</cp:coreProperties>
</file>