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FEF9-8AE6-4285-B3E6-7768F6E7E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88B1-16E0-4922-A451-AB06161C0A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CD4-081D-42DC-82D6-D5E1BBAAE3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7DCF-1F95-4D79-B6AA-B15D52E2F5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58C-3BC5-4CF7-8841-7C2240AC11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C91-DD09-48C6-BE5C-4D70628D4A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DFAC-08CC-4828-922C-3F7B7611F5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0944-E42F-4EC5-A83E-D9927F52E1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1F8B-4C3A-46E1-BF9D-BFCFEBF0D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64E5-B9E1-4931-9D38-4773182188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D75-5F8A-489B-9EA7-174456C496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8E6-D120-4C40-9E63-66BBCCA1CF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2F2-DF19-414E-9814-B1514A4ED3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1D38-26B6-46C9-BA6E-E62DF9381F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23D4-A05E-46BE-BF32-CD376341C2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681-4E23-4D3D-B202-3B6FAFD694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564A-1D9E-4A4B-BD5F-41FA0A207C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E89-D78B-4BC7-B84D-067B017373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3BB8-EE92-4F95-A700-D204ED3F97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D09F-280C-409A-BF24-5AAAD96980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14D5-5544-48EA-971D-7C486F8D74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68E0-D8A0-4343-9410-0735FA6398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FAE8-CCD2-404A-9EEB-06E33B68ED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CAC0-19CE-4531-A8CD-CF2FF2D1C2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FF8-3925-4329-95DA-52968C0775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CC6-B715-4E88-B1CC-508AA400C1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B918-4676-4DE0-8333-A1679C7128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B9A6-8F73-4B1A-809C-7B20D520BF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AC1-8540-4DD1-87BB-17287EB174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AF98-5BBC-4018-A70F-7CA0CECD6B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562F-6F93-46E6-BB2C-FE14BA2128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531C-C95A-465D-B86D-C73BBE5848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87A-EE9F-4D4D-9D29-8676C3C3AB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A16-9BBB-4F11-9DF2-6B1684D017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1D9-DE9D-435C-92B9-F587DC82E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F37B-EC86-4A99-8D91-72999890B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769-97C1-4083-B3C3-7D3BF37168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591-162D-4A00-AA39-A3C0417B95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F6F4-6B61-4DB9-90AC-B62A1830A1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DFF-6D9D-48C3-ADD9-46B13B39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2AD-26D9-479E-824A-4D302761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39B8E-19E6-4E45-8E6D-2630423D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CDFCD-D7CB-4A2E-BA03-9AED7A0C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191C4-82BA-412C-A088-4EFE536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A8E4-B312-45E0-AFE6-21C2E63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0D639-9BE9-4F4F-9C1E-56B9A726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C684B-364C-42C6-8C05-97782BB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2FDE1-39CC-4E53-8455-3317787F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E7B78-72E0-4413-A74A-5B3AF523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638FA-2E19-4939-892B-E99F4E6F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DAE71-FF52-43AC-A9E0-907D3EE6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422-8D35-45B8-9624-45AD2420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38F62-2971-48E9-B5E9-D3A31455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6C018-DC43-483B-B8D2-03E1AA4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51019-B342-4A45-BE27-A4ED3E3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981AD-19FC-460E-B4CF-49DEE5E9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70A33-FEE6-49BD-A2FB-EFC7B4A2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EE7E6-F2FF-4C6E-B7E2-4A3E2AF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55383-E4D9-4E1A-95B8-35CAC88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25866-6ACF-4574-962C-1F9B00D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642E4-A4CF-42DE-B3B3-347CE3CE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F6485-2187-4BC7-80D3-9396D464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0CB-24BB-4DB4-BBFF-68477B9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30C88-4169-4834-8AB7-9C25335E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61203-0EAA-43D1-85C3-049ECCC3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97DD9-6AA9-4600-B1FB-1655588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4E043-9717-4E66-A890-318A2511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CBA63-FB88-41D3-A9EA-27A4ED9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56C6-D346-4A4A-978C-21CFC90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2E04C-80E2-4649-8514-C10CB9E2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A1E1E-CD04-4DF8-BE8C-9ECA494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E5BC7-B46B-4B3E-B365-E92C03B8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8D19D-DFB4-45A3-802B-D7AB029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F4D3-028D-4420-B847-AF2DEE1D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AB62B-02BE-4762-BF74-387BD7DC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0936-7EA3-49E7-9769-0239EF40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5D204-4CDD-464B-9879-3FE4D21B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D7D98-3790-4BCD-BB9C-4ECFE229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672F0-5F85-464E-8984-32855CD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36015-C627-4F3F-A9C7-AD739962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6D2CB-08C7-4BB8-9CC5-36A4FF5F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86302-7FB6-493C-A4BB-F043A7E3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3905F-A95B-439F-99B9-4A1F197A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2834F-EFAD-4864-8B40-573FFBF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8378C-8253-49B1-A667-786836CB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08DCA-CE93-4F53-ACC6-7C62BE2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4F77A-609F-44EF-BE70-6A16669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4E0F5-83AC-4857-9BD5-106921D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A0B8D-E2EA-442B-A2FF-B7802A8E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C1E0C-DA3B-414B-8F3C-203FD321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72795-5750-4FF7-A847-59BCF44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7FAE5-ECD2-422E-A641-CCAC35E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29A87-4B0A-4A06-A81F-6BD3C748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D1040-7EF1-4AE2-83F8-F68BFC23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67EBB-DAA0-4DC5-8B8D-BAA916C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9DA-434E-4A82-8727-02740567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CEA22-5924-43A8-A222-EC473A3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2C449-47E2-42EE-85B6-E2786A0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334C6-FBBD-495F-90AB-B76F3CB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F6A9-DA06-4FAD-AA00-BF9209DC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DBC23-59A2-414E-8D83-F16F7E04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E682-CD1B-4C61-9AEB-C2F9087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BBDC-86C3-48EB-9C20-E421AE2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99CB-D08C-4AA6-9BB0-02A92C36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D7B4-047B-49FF-BEB3-E4F2EE62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6282-EAC8-4D98-A7A7-1F5D175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65F-CD96-49F7-8109-DFE03642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17BD-B5CD-4D44-9EEB-135BE58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F1BF-27EE-4F5E-9DC8-EAFFB20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3163-A931-4B11-BC9C-99A631E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DDBD-3C8C-4EAF-900E-E0D3015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5741-E9FD-4EE4-BA82-ED9FCDB8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3140-C20E-4132-891F-3E8B9498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0F75-ED39-4A72-A3C8-BE051D2F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5661-4BF3-4377-816F-D991FCFA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E30F-6243-4023-A5DD-FEF8B857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9BE5-D650-4A03-BC48-086DE8F3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65D-8FCE-47AA-83AB-7C56C9B2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FC8E-A405-47BA-8399-254FF0B0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B603-82DA-4CC7-B07B-606A951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6D17-4484-429A-A178-E1ED8E9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714D-0516-43E1-A608-7A48D234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68D7-8827-4119-A843-AFDE5BD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43D7-E3F2-457E-9B4E-4A2A243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916F-3A8A-4228-8670-D2E88B42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98D1-66EF-4FCB-9D26-9E81E88B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3C853-E5C8-46DC-92F9-E638B900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49277-3395-4CD4-A141-FF1C1E99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C2C-2C1A-49B3-901D-71CE6370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F3D9-F38C-44C1-81F7-A5FABCE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D585-E0F5-42A5-B9B5-82863E84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B5845-F3A1-4CDE-8EA2-FB391984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3547-3751-454A-9EEE-C7FE8915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58B05-0B02-461D-8056-7328E7BC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A59F-A060-4C3D-98A6-4870634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6B54-3F89-4341-BF99-F840C0D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DE08-3423-40D7-8692-19B5E97A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88143-45E2-4198-A039-A2D34605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749DF-05A8-4162-926C-9A9A3F71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7AD-6898-4137-8F17-0C0AAF14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8D0F-FF91-431C-9270-E19E60A7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1676-371A-4FC7-B45B-549A00ED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AC70-97A1-4BBD-BDA1-86A9878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5349-6148-46CF-9C63-52A58F65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DE68F-1334-4B12-A8D1-A6FA8E92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279A-7DC1-4DCE-9786-892BF562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C15F7-34A9-4A31-B977-4AC35933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CE47-DBA0-40F1-AF36-C7AAA8F5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75D77-255F-4BCF-8CF8-3E71E2E9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A361-8893-45C8-A63D-AA5F814B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BEE-2ADF-4058-9D37-24EB1689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226B1-4661-49D0-B15D-D39C4EAF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D020B-E4D3-4C39-B93F-EA3D0519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D663-75A7-45F3-9B45-3777A547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9101D-043C-4CC0-8DEB-A1E05CA2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BAFBF-583C-44F6-967F-4A453267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E9D7A-1153-4050-8803-8A2B2339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B9A3-B872-4596-B4B1-16FCC2D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54B4-9F80-4E16-ACC4-AC8AE238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BB1F2-6DFD-4EDF-B77E-154EDAD0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5E36-5C52-4578-9DE3-A940054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AD3-769C-4492-A877-19456EC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217F-9363-4BB7-9578-01C01E5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11FC-FE3D-4DCC-BA58-ACE0860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9673-0BB0-4FB4-A09C-E32E0159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73F6-1DE3-4A91-8726-13215AC0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43ED-8DA5-4771-A7E8-52A3929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7FFB-6584-4AB7-A91E-4F2FC8A4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23452-1D27-4A63-B138-2FD2AED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A59BC-B249-4564-897C-3FF7EBA0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2307-86E7-4BC3-8BC8-C4CA41F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21A8-88D6-4843-B4B0-8DE1616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D8F-6E31-4780-8D53-89C2259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172E2-C814-48D1-B6F0-F8B4050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6B317-9E3F-4D8F-ACBC-3D9ACCB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6AC4D-CFB2-4C79-B8F0-74C7566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78F34-128E-4F94-9BA5-C922A25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DF2D-9713-4CE3-AD19-596DAF92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6711-1D72-43A7-A3DC-E2AFFA1D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095B-2293-4F18-8122-4843E802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A8B60-B6A4-4EDD-81D8-66482916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8AE36-C9A9-43C9-A430-298CBD46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B4EEE-2D51-44A3-953E-FEBA8CA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F77-5160-4B59-85EC-4B8AA9A50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06C-3F26-4497-87E1-36B7CA3CF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2A11-249F-4654-B136-353EC14FD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BC4F-E112-42A5-BDC9-1A28475928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801-A76A-48CF-B2BD-CC85CF3B3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218-14D5-437E-A8B6-5E0F2FF64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693-5EBD-4DB3-9FFF-B36983196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43B9-6A59-4B85-BF97-8C9BA309B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A9D-5355-41B6-9BB9-BF5573DCA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0140-4009-4628-BA96-17F642048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D70C-C81E-46E6-96A1-E51E3A1A0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6F80-5F83-4914-B4E4-20D7230C1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AFE-2DDB-47AC-8CA0-8090606547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дение специализированного учета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учающихся с ограниченным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ями здоровья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инвалидностью на этапе их обуч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рофессиональных образовательных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ациях Самарской обла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ст ЦПО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еменова Наталья Григорьевн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ктября 202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2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163-11FF-4C20-9A03-2483B32A28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ий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ограниченными возможностями здоровь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имеющее недостатки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м и (или) психологическом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, подтвержденные психолого-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педагогической комиссией 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ующие получению образовани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здания специальных условий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тверждается заключением ПМПК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" name="Рисунок 3" descr=""/>
          <p:cNvPicPr/>
          <p:nvPr/>
        </p:nvPicPr>
        <p:blipFill>
          <a:blip r:embed="rId1"/>
          <a:stretch/>
        </p:blipFill>
        <p:spPr>
          <a:xfrm>
            <a:off x="277920" y="476280"/>
            <a:ext cx="347796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4C0-1462-4E31-ADA9-7A6145CC4C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190440" y="423720"/>
            <a:ext cx="89535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терминологии ФЗ-273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разовательные программы для обучающихся с ОВЗ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носятся к адаптированным образовательным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рограммам (АОП)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соответствии с п. 28 ст. 2 ФЗ-273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АОП - это образовательная программа, адаптированная для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учения лиц с ограниченными возможностями здоровья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индивидуальных возможностей и при необходимост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еспечивающая коррекцию нарушений развития 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оциальную адаптацию указанных лиц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" name="Рисунок 3" descr=""/>
          <p:cNvPicPr/>
          <p:nvPr/>
        </p:nvPicPr>
        <p:blipFill>
          <a:blip r:embed="rId1"/>
          <a:stretch/>
        </p:blipFill>
        <p:spPr>
          <a:xfrm>
            <a:off x="190440" y="13032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4F2-1A4E-4DE9-89E5-D5D212039B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79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я получени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обучающими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граниченными возможностями здоровь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7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65AE-EA44-4F08-8F60-0F2FFA4895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4616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0" name="Рисунок 3" descr=""/>
          <p:cNvPicPr/>
          <p:nvPr/>
        </p:nvPicPr>
        <p:blipFill>
          <a:blip r:embed="rId1"/>
          <a:stretch/>
        </p:blipFill>
        <p:spPr>
          <a:xfrm>
            <a:off x="277920" y="476280"/>
            <a:ext cx="3477960" cy="1217520"/>
          </a:xfrm>
          <a:prstGeom prst="rect">
            <a:avLst/>
          </a:prstGeom>
          <a:ln w="0">
            <a:noFill/>
          </a:ln>
        </p:spPr>
      </p:pic>
      <p:pic>
        <p:nvPicPr>
          <p:cNvPr id="541" name="Группа 22" descr=""/>
          <p:cNvPicPr/>
          <p:nvPr/>
        </p:nvPicPr>
        <p:blipFill>
          <a:blip r:embed="rId2"/>
          <a:stretch/>
        </p:blipFill>
        <p:spPr>
          <a:xfrm>
            <a:off x="1785960" y="1481040"/>
            <a:ext cx="3030480" cy="3030480"/>
          </a:xfrm>
          <a:prstGeom prst="rect">
            <a:avLst/>
          </a:prstGeom>
          <a:ln w="0">
            <a:noFill/>
          </a:ln>
        </p:spPr>
      </p:pic>
      <p:pic>
        <p:nvPicPr>
          <p:cNvPr id="542" name="Группа 10" descr=""/>
          <p:cNvPicPr/>
          <p:nvPr/>
        </p:nvPicPr>
        <p:blipFill>
          <a:blip r:embed="rId3"/>
          <a:stretch/>
        </p:blipFill>
        <p:spPr>
          <a:xfrm>
            <a:off x="4400640" y="1530360"/>
            <a:ext cx="3262320" cy="3029040"/>
          </a:xfrm>
          <a:prstGeom prst="rect">
            <a:avLst/>
          </a:prstGeom>
          <a:ln w="0">
            <a:noFill/>
          </a:ln>
        </p:spPr>
      </p:pic>
      <p:pic>
        <p:nvPicPr>
          <p:cNvPr id="543" name="Группа 13" descr=""/>
          <p:cNvPicPr/>
          <p:nvPr/>
        </p:nvPicPr>
        <p:blipFill>
          <a:blip r:embed="rId4"/>
          <a:stretch/>
        </p:blipFill>
        <p:spPr>
          <a:xfrm>
            <a:off x="3114720" y="3249720"/>
            <a:ext cx="319392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E016-5DDD-4E46-985C-2F708FA0C6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201600" y="5605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4"/>
          <p:cNvSpPr/>
          <p:nvPr/>
        </p:nvSpPr>
        <p:spPr>
          <a:xfrm>
            <a:off x="506520" y="2252520"/>
            <a:ext cx="7697520" cy="18669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исьмо о направлении требований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к организации образовательного процесса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для обучения инвалидов и лиц с ОВЗ в ПОО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18 марта 2014г.  № 06-281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484200" y="4351320"/>
            <a:ext cx="7697880" cy="18669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исьмо Министерства образования и наук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оссийской Федерации,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Федеральной службы по надзору в сфер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разования и науки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14 ноября 2016 г. №05-616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7DE-E793-4D1B-8920-98817AC422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й уче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 обучающегося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ееся образование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семье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группе инвалидности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иде нарушения здоровья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ПМПК и/или МСЭ (ИПРА)*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пециалистах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оциокультурной среды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1" name="Рисунок 3" descr=""/>
          <p:cNvPicPr/>
          <p:nvPr/>
        </p:nvPicPr>
        <p:blipFill>
          <a:blip r:embed="rId1"/>
          <a:stretch/>
        </p:blipFill>
        <p:spPr>
          <a:xfrm>
            <a:off x="493560" y="79848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9C2A-20EB-413C-AB47-7712C62A72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рушений здоровь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слух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зрения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опорно-двигательного аппарат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ие виды нарушений здоровья (соматические заболевания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ые, психические нарушения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интеллекта (ЗПР, УО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ные дефекты (2 и более нарушений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есение обучающихся к тому или иному виду нарушений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осуществляется по тому виду нарушений здоровья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в большей степен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удняет учебный процесс и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ует создания специальных условий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4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324000" y="48639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8C3-F8C9-4844-AAC9-DD6600E2AF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AutoShape 5"/>
          <p:cNvSpPr/>
          <p:nvPr/>
        </p:nvSpPr>
        <p:spPr>
          <a:xfrm>
            <a:off x="322200" y="27288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8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"/>
          <p:cNvPicPr/>
          <p:nvPr/>
        </p:nvPicPr>
        <p:blipFill>
          <a:blip r:embed="rId2"/>
          <a:stretch/>
        </p:blipFill>
        <p:spPr>
          <a:xfrm>
            <a:off x="784080" y="1817640"/>
            <a:ext cx="766152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F62-A533-40A6-8D07-0975044C9D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чета лиц с ОВЗ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2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534960" y="1685880"/>
            <a:ext cx="8285040" cy="45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FABA-EE3C-4FAF-90B0-5E1611F103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6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121600" cy="43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5B10-3351-45AA-99E0-4CA167CB5E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5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" descr=""/>
          <p:cNvPicPr/>
          <p:nvPr/>
        </p:nvPicPr>
        <p:blipFill>
          <a:blip r:embed="rId2"/>
          <a:stretch/>
        </p:blipFill>
        <p:spPr>
          <a:xfrm>
            <a:off x="466560" y="2044800"/>
            <a:ext cx="7893360" cy="44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4BF-E2FC-423A-B492-6BAF01A0E9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0" name="Рисунок 3" descr=""/>
          <p:cNvPicPr/>
          <p:nvPr/>
        </p:nvPicPr>
        <p:blipFill>
          <a:blip r:embed="rId1"/>
          <a:stretch/>
        </p:blipFill>
        <p:spPr>
          <a:xfrm>
            <a:off x="190440" y="4809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1" descr=""/>
          <p:cNvPicPr/>
          <p:nvPr/>
        </p:nvPicPr>
        <p:blipFill>
          <a:blip r:embed="rId2"/>
          <a:stretch/>
        </p:blipFill>
        <p:spPr>
          <a:xfrm>
            <a:off x="309600" y="1754280"/>
            <a:ext cx="8258040" cy="46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1CD-D62A-442E-AAA5-D2BBF6EFAE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4" name="Рисунок 3" descr=""/>
          <p:cNvPicPr/>
          <p:nvPr/>
        </p:nvPicPr>
        <p:blipFill>
          <a:blip r:embed="rId1"/>
          <a:stretch/>
        </p:blipFill>
        <p:spPr>
          <a:xfrm>
            <a:off x="37476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" descr=""/>
          <p:cNvPicPr/>
          <p:nvPr/>
        </p:nvPicPr>
        <p:blipFill>
          <a:blip r:embed="rId2"/>
          <a:stretch/>
        </p:blipFill>
        <p:spPr>
          <a:xfrm>
            <a:off x="374760" y="1641600"/>
            <a:ext cx="8312040" cy="46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8326-D8B1-46E1-9A10-A904A682A6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90440" y="5605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8" name="Рисунок 3" descr=""/>
          <p:cNvPicPr/>
          <p:nvPr/>
        </p:nvPicPr>
        <p:blipFill>
          <a:blip r:embed="rId1"/>
          <a:stretch/>
        </p:blipFill>
        <p:spPr>
          <a:xfrm>
            <a:off x="412920" y="44280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1" descr=""/>
          <p:cNvPicPr/>
          <p:nvPr/>
        </p:nvPicPr>
        <p:blipFill>
          <a:blip r:embed="rId2"/>
          <a:stretch/>
        </p:blipFill>
        <p:spPr>
          <a:xfrm>
            <a:off x="71280" y="1541520"/>
            <a:ext cx="8626680" cy="51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1F8D-3A49-4AB0-AF7F-7973916082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2" name="Рисунок 3" descr=""/>
          <p:cNvPicPr/>
          <p:nvPr/>
        </p:nvPicPr>
        <p:blipFill>
          <a:blip r:embed="rId1"/>
          <a:stretch/>
        </p:blipFill>
        <p:spPr>
          <a:xfrm>
            <a:off x="204840" y="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6" descr="D:\ЦПО\Мониторинг ОВЗ\Спец.учет\2020\Консультация\IMG-025e705f953f29d0c4903dde97d07b5f-V.jpg"/>
          <p:cNvPicPr/>
          <p:nvPr/>
        </p:nvPicPr>
        <p:blipFill>
          <a:blip r:embed="rId2"/>
          <a:srcRect l="0" t="0" r="0" b="36503"/>
          <a:stretch/>
        </p:blipFill>
        <p:spPr>
          <a:xfrm>
            <a:off x="1635120" y="763560"/>
            <a:ext cx="6348240" cy="56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4BFF-3626-43F9-95F5-7F383322E4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6" name="Рисунок 3" descr=""/>
          <p:cNvPicPr/>
          <p:nvPr/>
        </p:nvPicPr>
        <p:blipFill>
          <a:blip r:embed="rId1"/>
          <a:stretch/>
        </p:blipFill>
        <p:spPr>
          <a:xfrm>
            <a:off x="0" y="1584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D:\ЦПО\Мониторинг ОВЗ\Спец.учет\2020\Консультация\IMG-28aa1bba21d44e932079aa90d4898217-V.jpg"/>
          <p:cNvPicPr/>
          <p:nvPr/>
        </p:nvPicPr>
        <p:blipFill>
          <a:blip r:embed="rId2"/>
          <a:srcRect l="6737" t="30789" r="9880" b="20745"/>
          <a:stretch/>
        </p:blipFill>
        <p:spPr>
          <a:xfrm>
            <a:off x="1405080" y="1168560"/>
            <a:ext cx="709740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9BD4-4F60-45E6-B415-08B8769698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 для предоставл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ендарного года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аты его подписания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Это означает, что, если в течении года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учающийся не предоставил заключение ПМПК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образовательную организацию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ему вновь нужно будет пройти ПМПК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если он примет решение о необходимо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еализации рекомендаций ПМПК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0" name="Рисунок 3" descr=""/>
          <p:cNvPicPr/>
          <p:nvPr/>
        </p:nvPicPr>
        <p:blipFill>
          <a:blip r:embed="rId1"/>
          <a:stretch/>
        </p:blipFill>
        <p:spPr>
          <a:xfrm>
            <a:off x="357120" y="18576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2F2-F4C1-4E97-879E-917F3D5F31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ми о признани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гося лицом с ОВЗ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правка о состоянии здоровья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едагога-психолога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врачебных комиссий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об установлении инвалидности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законодательство не устанавливает порядок и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установление статуса «обучающийся с ОВЗ»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лиц, имеющих статус «инвалид» («ребенок-инвалид»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3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2"/>
          <a:stretch/>
        </p:blipFill>
        <p:spPr>
          <a:xfrm>
            <a:off x="406440" y="4513320"/>
            <a:ext cx="1076400" cy="12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5323-F40A-4577-A1CD-35CEA05FC4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римерного Положения 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м консилиум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09.09.2019г. Р-93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7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84B4-D464-4FC1-87BB-2525D5B9D1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содержащаяся в справке МСЭ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милия, имя, отчество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а рождения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сто жительства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а инвалидность впервые или повторно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инвалидности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чина инвалидности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ок, на который установлена инвалидность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кретная дата или бессрочно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0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AF6E-AB9E-4B18-BB8B-092D4E0C41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МСЭ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3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D:\по программам ПК\образец справки МСЭ.jpg"/>
          <p:cNvPicPr/>
          <p:nvPr/>
        </p:nvPicPr>
        <p:blipFill>
          <a:blip r:embed="rId2"/>
          <a:stretch/>
        </p:blipFill>
        <p:spPr>
          <a:xfrm>
            <a:off x="996840" y="1252440"/>
            <a:ext cx="7221600" cy="50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4E1-1DB6-434E-92C4-74C1FCCBDD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9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" descr=""/>
          <p:cNvPicPr/>
          <p:nvPr/>
        </p:nvPicPr>
        <p:blipFill>
          <a:blip r:embed="rId2"/>
          <a:stretch/>
        </p:blipFill>
        <p:spPr>
          <a:xfrm>
            <a:off x="295200" y="409680"/>
            <a:ext cx="8286840" cy="61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5382-6F91-4829-AA91-8DDE742CA5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МСЭ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7" name="Рисунок 3" descr=""/>
          <p:cNvPicPr/>
          <p:nvPr/>
        </p:nvPicPr>
        <p:blipFill>
          <a:blip r:embed="rId1"/>
          <a:stretch/>
        </p:blipFill>
        <p:spPr>
          <a:xfrm>
            <a:off x="357120" y="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6" descr="D:\ЦПО\Мониторинг ОВЗ\Спец.учет\2020\Консультация\IMG-fda9d2ebf7267f87ffa338014ef471f3-V.jpg"/>
          <p:cNvPicPr/>
          <p:nvPr/>
        </p:nvPicPr>
        <p:blipFill>
          <a:blip r:embed="rId2"/>
          <a:srcRect l="0" t="51111" r="0" b="15336"/>
          <a:stretch/>
        </p:blipFill>
        <p:spPr>
          <a:xfrm>
            <a:off x="824040" y="1338120"/>
            <a:ext cx="7761240" cy="490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A3B7-CE66-4A3B-B911-278704D988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отчетной документаци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1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251-D553-4B28-A73F-A6A1209C7D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90440" y="4111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аспоряжение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Губернатора Самарской обла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05.11.2015 № 644-р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«Об утверждении Межведомственного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комплексного плана мероприятий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о организации инклюзивного образования 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озданию специальных условий для получ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рофессионального образования инвалидами 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лицами с ограниченными возможностям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здоровья в Самарской области на 2015-2020 годы»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(ред. 04.08.2017г.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4" name="Рисунок 3" descr=""/>
          <p:cNvPicPr/>
          <p:nvPr/>
        </p:nvPicPr>
        <p:blipFill>
          <a:blip r:embed="rId1"/>
          <a:stretch/>
        </p:blipFill>
        <p:spPr>
          <a:xfrm>
            <a:off x="190440" y="6429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374760" y="209232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CADE-7D89-4D3A-B4B7-635CA22EAB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т-апр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наличия в ПО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й для получения профессионального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нвалидами и лицами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тябр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аза данных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изированному учету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8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D143-B696-4477-90AC-F7CAF85442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валидов и лиц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22" name="Рисунок 3" descr=""/>
          <p:cNvPicPr/>
          <p:nvPr/>
        </p:nvPicPr>
        <p:blipFill>
          <a:blip r:embed="rId1"/>
          <a:stretch/>
        </p:blipFill>
        <p:spPr>
          <a:xfrm>
            <a:off x="507960" y="743040"/>
            <a:ext cx="3478320" cy="12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3" name=""/>
          <p:cNvGraphicFramePr/>
          <p:nvPr/>
        </p:nvGraphicFramePr>
        <p:xfrm>
          <a:off x="814320" y="2476440"/>
          <a:ext cx="7248600" cy="407376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</a:tblGrid>
              <a:tr h="113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СП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профессионального обуч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о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бучающихся с ОВ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 и обучающийся с ОВЗ (2 статуса одновременно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D48-4EB4-4254-9631-B126321A14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валидов и лиц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26" name="Рисунок 3" descr=""/>
          <p:cNvPicPr/>
          <p:nvPr/>
        </p:nvPicPr>
        <p:blipFill>
          <a:blip r:embed="rId1"/>
          <a:stretch/>
        </p:blipFill>
        <p:spPr>
          <a:xfrm>
            <a:off x="507960" y="743040"/>
            <a:ext cx="3478320" cy="12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709560" y="2496960"/>
          <a:ext cx="7344000" cy="425952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123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СП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профессионального обуч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о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бучающихся с ОВ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 и обучающийся с ОВЗ (2 статуса одновременно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BD2-2ACF-44AA-85B5-2D31947761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бланк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ого учет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0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CA3-BD0F-47E4-AD35-1462F16C76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сдачи базы данных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изированному учету –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30 октябр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бинет 107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5233-B3CA-4E3B-8ED2-D64302B8C9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а Наталья Григорьевн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334-04-71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272048720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enova@cposo.ru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8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37F0-43D1-4F16-AEEF-38DB398BEF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4.11.1995 г. № 181-ФЗ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социальной защите инвалидов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.ред. 18.07.201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3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160A-ACDF-4784-BF0A-96AAE06B16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вали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, которое имеет нарушение здоровь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йким расстройством функций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, обусловленное заболеваниями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ми травм или дефектами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ее к ограничению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деятельности и вызывающе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его социальной защиты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тверждается справкой об инвалидности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юро МСЭ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6" name="Рисунок 3" descr=""/>
          <p:cNvPicPr/>
          <p:nvPr/>
        </p:nvPicPr>
        <p:blipFill>
          <a:blip r:embed="rId1"/>
          <a:stretch/>
        </p:blipFill>
        <p:spPr>
          <a:xfrm>
            <a:off x="190440" y="42372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BD6-2562-45D9-AF45-8F1A2EE09D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граничение жизнедеятель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лна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частичная утрата лицом способност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озможности осуществлять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, самостоятельн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гаться, ориентироваться, общаться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свое поведение, обучать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ниматься трудовой деятельностью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9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50E8-371B-4858-BCDC-7CB3069721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бенок-инвали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тегория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мая инвалидам в возраст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8 лет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6BCE-883D-4485-B161-3A87E07CCC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19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инвалидов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" name="Рисунок 3" descr=""/>
          <p:cNvPicPr/>
          <p:nvPr/>
        </p:nvPicPr>
        <p:blipFill>
          <a:blip r:embed="rId1"/>
          <a:stretch/>
        </p:blipFill>
        <p:spPr>
          <a:xfrm>
            <a:off x="630360" y="620640"/>
            <a:ext cx="347796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7BC-E26F-45B5-855A-E37C4E3855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г. № 273-ФЗ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.ред. 26.07.201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3:55:37Z</dcterms:created>
  <dc:creator>Пользователь</dc:creator>
  <dc:description/>
  <dc:language>en-US</dc:language>
  <cp:lastModifiedBy>Пользователь</cp:lastModifiedBy>
  <dcterms:modified xsi:type="dcterms:W3CDTF">2020-10-12T12:26:26Z</dcterms:modified>
  <cp:revision>335</cp:revision>
  <dc:subject/>
  <dc:title>Основные виды технических средств обучения, их классификация и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f000000000001024140</vt:lpwstr>
  </property>
</Properties>
</file>